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9FE-559A-45F6-9508-42EFEB46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7C3-DC22-496D-80E1-611F2B71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32B-74D7-4F53-87C7-2C1A89BD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2A1-EF01-4B10-BEFD-469D12B3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72F0-EDB4-4869-9C4B-328169F6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6EEE-8E69-4519-A4DC-48433862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3B29-BF05-46DD-9746-46D2DBB0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B03F-0CE8-4133-9AE9-6FE23CA1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3076-2423-4661-9382-2263A9CD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2ECC-A0B6-4787-9385-FD202179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F9BF-E0BD-40AF-AEA2-FE2D3050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4FD-08EB-444D-93D0-936C6112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6678-300C-4EC0-998E-F06E05E8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6908-F4D9-44C1-A873-58F026C8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2AF6-156D-43B2-AC03-6F0A6F4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8CC2-328F-48E5-8D91-FAAD97B6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40EC-7C4B-43FD-8070-F003C913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FA0-F528-4BA4-9C56-071CA827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D33-204E-445E-9157-9C7CD466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8DA-8E67-4678-9363-F57ADD5F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246-3C33-4DDC-BDEF-96453663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3AC-65B0-47A1-A10E-3C65F8BE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BA1-22B1-4113-A845-6AAE8607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A1D-2837-4AD5-BD5F-F7E01F4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A977-5CC3-4ACD-8E69-4567AAFB7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C830-F2BF-47ED-AEB7-3292CDB85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ctober R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olsheviks seize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2438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09680" y="5867280"/>
            <a:ext cx="480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y Mr Osborne</a:t>
            </a:r>
            <a:br>
              <a:rPr sz="2000"/>
            </a:b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choolHistory.co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e Bolsheviks take pow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676520"/>
            <a:ext cx="8763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lsheviks took control of the government in an almost bloodless coup between Oct 24 and 26 19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3048120"/>
            <a:ext cx="21337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dec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2590920"/>
            <a:ext cx="2743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in ends the war sends Trotsky to negotiate with Germany. Treaty of Brest-Litvo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548640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s the CH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4191120"/>
            <a:ext cx="1828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ies put under control of workers 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438280"/>
            <a:ext cx="243864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taken from Church, Nobility etc and given to peasants. Land not taken over by the State (y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257800"/>
            <a:ext cx="266688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non -Bolshevik papers were b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ime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ch - Petrograd Soviet issues Order No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ril - Lenin returns issues April 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ne -  Failure of the June Offen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ly -  The July Days - Lenin fle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g - Kornilov Revo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pt - Bolsheviks win control of the Sovi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 - Trotsky become chairman of Soviet. Lenin retu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 24 - 26 Bolshevik r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s facing the Provisional Govern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- Peasants demand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er - The workers in the cities were demanding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- fight on or make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aries - how to stop the spread of their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my - needed loyalty of th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ponse of the Govern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overnment promised land reforms but gave no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overnment could not guarantee food supplies as the Soviets controlled rail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overnment promised political reform in an attempt to stop revolutionaries. They failed to take any positive a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oops in Petrograd were now under the control of the Soviet and refused to obey the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sants angry with the Government started to seiz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joined the Bolshevi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lsheviks and other groups gathere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was losing control to the Petrograd Sov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nin return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in return from Switzerland with German assistance and issues h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ril 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ll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throw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to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iets to form new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given to pea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o control factories and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304920"/>
            <a:ext cx="1981440" cy="1143000"/>
          </a:xfrm>
          <a:prstGeom prst="wedgeRoundRectCallout">
            <a:avLst>
              <a:gd name="adj1" fmla="val -48796"/>
              <a:gd name="adj2" fmla="val 7500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we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vi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80880"/>
            <a:ext cx="22860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352680" y="2133720"/>
            <a:ext cx="2362320" cy="274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uly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143000"/>
            <a:ext cx="2438280" cy="451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ilure of the June Offensive led to widespread muti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lsheviks supported but did not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1295280"/>
            <a:ext cx="27432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ots qu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sheviks accused of being German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shevik leaders arrested . Lenin escapes to Fin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sheviks weakened but seen as main revolutionar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505320" y="1600200"/>
            <a:ext cx="2514600" cy="274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ornilov Re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990720"/>
            <a:ext cx="2819520" cy="50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1917 General Kornilov attempts a c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nsky is forced to ask the Bolsheviks for help. Bolshevik leaders are released and the Red Guard is given weap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sheviks defeat Korni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1066680"/>
            <a:ext cx="2895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sheviks seen as her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rity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me a well armed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y were the Bolsheviks successful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828800"/>
            <a:ext cx="28195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e of Len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ed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Prav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ed capture and organised the c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r slogans to raise moral and public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1905120"/>
            <a:ext cx="2514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e of Trot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ed Bolsheviks after July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minded the events of the c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military leader organised the Red Gu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905120"/>
            <a:ext cx="19051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s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nsky new of Trotsky's plan but had lost support of the army and so was help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0-24T02:15:44Z</dcterms:modified>
  <cp:revision>3</cp:revision>
  <dc:subject/>
  <dc:title>The October Revolution</dc:title>
</cp:coreProperties>
</file>